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5.xml.rels" ContentType="application/vnd.openxmlformats-package.relationships+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media/image1.png" ContentType="image/pn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Calibri"/>
            </a:endParaRPr>
          </a:p>
        </p:txBody>
      </p:sp>
      <p:sp>
        <p:nvSpPr>
          <p:cNvPr id="43"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4"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lt;date/time&gt;</a:t>
            </a:r>
            <a:endParaRPr b="0" lang="en-US" sz="1200" spc="-1" strike="noStrike">
              <a:solidFill>
                <a:srgbClr val="000000"/>
              </a:solidFill>
              <a:latin typeface="Calibri"/>
            </a:endParaRPr>
          </a:p>
        </p:txBody>
      </p:sp>
      <p:sp>
        <p:nvSpPr>
          <p:cNvPr id="45"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6"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7"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8"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000000"/>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E142ABC-ADE4-4278-81FD-7616ED5335E5}"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PlaceHolder 1"/>
          <p:cNvSpPr>
            <a:spLocks noGrp="1"/>
          </p:cNvSpPr>
          <p:nvPr>
            <p:ph type="sldImg"/>
          </p:nvPr>
        </p:nvSpPr>
        <p:spPr>
          <a:xfrm>
            <a:off x="1143000" y="685800"/>
            <a:ext cx="4572000" cy="3429000"/>
          </a:xfrm>
          <a:prstGeom prst="rect">
            <a:avLst/>
          </a:prstGeom>
          <a:ln w="0">
            <a:noFill/>
          </a:ln>
        </p:spPr>
      </p:sp>
      <p:sp>
        <p:nvSpPr>
          <p:cNvPr id="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93"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ED66AF0-1D1C-44B7-A2C4-8A53A3CBED17}"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4" name="PlaceHolder 1"/>
          <p:cNvSpPr>
            <a:spLocks noGrp="1"/>
          </p:cNvSpPr>
          <p:nvPr>
            <p:ph type="sldImg"/>
          </p:nvPr>
        </p:nvSpPr>
        <p:spPr>
          <a:xfrm>
            <a:off x="1143000" y="685800"/>
            <a:ext cx="4572000" cy="3429000"/>
          </a:xfrm>
          <a:prstGeom prst="rect">
            <a:avLst/>
          </a:prstGeom>
          <a:ln w="0">
            <a:noFill/>
          </a:ln>
        </p:spPr>
      </p:sp>
      <p:sp>
        <p:nvSpPr>
          <p:cNvPr id="9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96"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FEA691DC-0C73-4967-B02C-EFD0E4241B50}"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sldImg"/>
          </p:nvPr>
        </p:nvSpPr>
        <p:spPr>
          <a:xfrm>
            <a:off x="1143000" y="685800"/>
            <a:ext cx="4572000" cy="3429000"/>
          </a:xfrm>
          <a:prstGeom prst="rect">
            <a:avLst/>
          </a:prstGeom>
          <a:ln w="0">
            <a:noFill/>
          </a:ln>
        </p:spPr>
      </p:sp>
      <p:sp>
        <p:nvSpPr>
          <p:cNvPr id="9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99"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D1AE2CD4-DFC5-4F7E-841E-6240EBAB800C}"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sldImg"/>
          </p:nvPr>
        </p:nvSpPr>
        <p:spPr>
          <a:xfrm>
            <a:off x="1143000" y="685800"/>
            <a:ext cx="4572000" cy="3429000"/>
          </a:xfrm>
          <a:prstGeom prst="rect">
            <a:avLst/>
          </a:prstGeom>
          <a:ln w="0">
            <a:noFill/>
          </a:ln>
        </p:spPr>
      </p:sp>
      <p:sp>
        <p:nvSpPr>
          <p:cNvPr id="10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it-IT" sz="1200" spc="-1" strike="noStrike">
              <a:solidFill>
                <a:srgbClr val="000000"/>
              </a:solidFill>
              <a:latin typeface="Calibri"/>
            </a:endParaRPr>
          </a:p>
        </p:txBody>
      </p:sp>
      <p:sp>
        <p:nvSpPr>
          <p:cNvPr id="102" name="Segnaposto numero diapositiva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98B07077-DD1C-4B21-A167-D922919677F1}" type="slidenum">
              <a:rPr b="0" lang="it-IT" sz="1200" spc="-1" strike="noStrike">
                <a:solidFill>
                  <a:srgbClr val="000000"/>
                </a:solidFill>
                <a:latin typeface="Calibri"/>
              </a:rPr>
              <a:t>&lt;number&gt;</a:t>
            </a:fld>
            <a:endParaRPr b="0" lang="en-US" sz="1200" spc="-1" strike="noStrike">
              <a:solidFill>
                <a:srgbClr val="000000"/>
              </a:solidFill>
              <a:latin typeface="Calibri"/>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A1B62C2-ED0C-441C-AC2F-EB157979E1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8"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9"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E33D73-AF8B-42E9-A0E7-792969B90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3"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4"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5C8DC94-33AE-4340-83C5-14E869F19EA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6"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7"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8"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9"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0"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1"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813623E-C9BE-48CE-B129-63EB938AA4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7"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185E71-8D83-4CCA-83B4-95083625CC0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A75DE9-B475-4336-88C6-AF1212C8FBD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1"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2"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A1D201-290A-4816-8CCC-9EF1BF49E5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DCFD19-258C-4FED-81AA-050238921D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991666-B1DF-4B23-995E-494A5E7E52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16"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7"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18"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DA0A23-9CEE-4308-B74C-2E2A0CA913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2"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752692-9F49-4C72-9BA1-5B36971CF55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4400" spc="-1" strike="noStrike">
              <a:solidFill>
                <a:srgbClr val="000000"/>
              </a:solidFill>
              <a:latin typeface="Calibri"/>
            </a:endParaRPr>
          </a:p>
        </p:txBody>
      </p:sp>
      <p:sp>
        <p:nvSpPr>
          <p:cNvPr id="2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5"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26"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67DEA9D-E2C9-49D9-8EE6-9B5B3587D40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898989"/>
                </a:solidFill>
                <a:latin typeface="Calibri"/>
              </a:defRPr>
            </a:lvl1pPr>
          </a:lstStyle>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898989"/>
                </a:solidFill>
                <a:latin typeface="Calibri"/>
              </a:rPr>
              <a:t>&lt;date/time&gt;</a:t>
            </a:r>
            <a:endParaRPr b="0" lang="en-US" sz="1200" spc="-1" strike="noStrike">
              <a:solidFill>
                <a:srgbClr val="000000"/>
              </a:solidFill>
              <a:latin typeface="Calibri"/>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defRPr b="0" lang="it-IT" sz="1200" spc="-1" strike="noStrike">
                <a:solidFill>
                  <a:srgbClr val="898989"/>
                </a:solidFill>
                <a:latin typeface="Calibri"/>
              </a:defRPr>
            </a:lvl1pPr>
          </a:lstStyle>
          <a:p>
            <a:pPr indent="0" algn="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fld id="{A43A6298-B1BF-4387-8123-45F7A4BFD901}" type="slidenum">
              <a:rPr b="0" lang="it-IT" sz="1200" spc="-1" strike="noStrike">
                <a:solidFill>
                  <a:srgbClr val="898989"/>
                </a:solidFill>
                <a:latin typeface="Calibri"/>
              </a:rPr>
              <a:t>&lt;number&gt;</a:t>
            </a:fld>
            <a:endParaRPr b="0" lang="en-US" sz="1200" spc="-1" strike="noStrike">
              <a:solidFill>
                <a:srgbClr val="000000"/>
              </a:solidFill>
              <a:latin typeface="Calibri"/>
            </a:endParaRPr>
          </a:p>
        </p:txBody>
      </p:sp>
      <p:pic>
        <p:nvPicPr>
          <p:cNvPr id="5" name="Immagine 6" descr="slide con hasthag3 copia.png"/>
          <p:cNvPicPr/>
          <p:nvPr/>
        </p:nvPicPr>
        <p:blipFill>
          <a:blip r:embed="rId2"/>
          <a:stretch/>
        </p:blipFill>
        <p:spPr>
          <a:xfrm>
            <a:off x="0" y="6161040"/>
            <a:ext cx="9144000" cy="7351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hyperlink" Target="https://www.comune.bologna.it/servizi-informazioni/amministrazione/piano-azioni-positive-comune-bologna" TargetMode="External"/><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 name="Immagine 4" descr="slide con hasthag.png"/>
          <p:cNvPicPr/>
          <p:nvPr/>
        </p:nvPicPr>
        <p:blipFill>
          <a:blip r:embed="rId1"/>
          <a:stretch/>
        </p:blipFill>
        <p:spPr>
          <a:xfrm>
            <a:off x="0" y="0"/>
            <a:ext cx="9201240" cy="6262560"/>
          </a:xfrm>
          <a:prstGeom prst="rect">
            <a:avLst/>
          </a:prstGeom>
          <a:ln w="0">
            <a:noFill/>
          </a:ln>
        </p:spPr>
      </p:pic>
      <p:sp>
        <p:nvSpPr>
          <p:cNvPr id="50" name="CasellaDiTesto 5"/>
          <p:cNvSpPr/>
          <p:nvPr/>
        </p:nvSpPr>
        <p:spPr>
          <a:xfrm>
            <a:off x="539640" y="1886040"/>
            <a:ext cx="6400800" cy="18612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i="1" lang="it-IT" sz="3200" spc="-1" strike="noStrike">
                <a:solidFill>
                  <a:srgbClr val="000000"/>
                </a:solidFill>
                <a:latin typeface="Calibri"/>
              </a:rPr>
              <a:t>PARITA’ E TRASPARENZA</a:t>
            </a:r>
            <a:endParaRPr b="0" lang="en-US" sz="32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it-IT" sz="2800" spc="-1" strike="noStrike">
                <a:solidFill>
                  <a:srgbClr val="000000"/>
                </a:solidFill>
                <a:latin typeface="Calibri"/>
                <a:ea typeface="Arial Unicode MS"/>
              </a:rPr>
              <a:t>La Giornata della trasparenza un’occasione per rappresentare l’importanza di una sinergia in materia</a:t>
            </a:r>
            <a:endParaRPr b="0" lang="en-US" sz="2800" spc="-1" strike="noStrike">
              <a:solidFill>
                <a:srgbClr val="000000"/>
              </a:solidFill>
              <a:latin typeface="Calibri"/>
            </a:endParaRPr>
          </a:p>
        </p:txBody>
      </p:sp>
      <p:sp>
        <p:nvSpPr>
          <p:cNvPr id="51" name="Rettangolo 6"/>
          <p:cNvSpPr/>
          <p:nvPr/>
        </p:nvSpPr>
        <p:spPr>
          <a:xfrm>
            <a:off x="1550880" y="5591160"/>
            <a:ext cx="250920" cy="368280"/>
          </a:xfrm>
          <a:prstGeom prst="rect">
            <a:avLst/>
          </a:prstGeom>
          <a:noFill/>
          <a:ln w="0">
            <a:noFill/>
          </a:ln>
        </p:spPr>
        <p:style>
          <a:lnRef idx="0"/>
          <a:fillRef idx="0"/>
          <a:effectRef idx="0"/>
          <a:fontRef idx="minor"/>
        </p:style>
        <p:txBody>
          <a:bodyPr wrap="none"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000090"/>
                </a:solidFill>
                <a:latin typeface="Calibri"/>
              </a:rPr>
              <a:t>-</a:t>
            </a:r>
            <a:endParaRPr b="0" lang="en-US" sz="1800" spc="-1" strike="noStrike">
              <a:solidFill>
                <a:srgbClr val="000000"/>
              </a:solidFill>
              <a:latin typeface="Calibri"/>
            </a:endParaRPr>
          </a:p>
        </p:txBody>
      </p:sp>
      <p:sp>
        <p:nvSpPr>
          <p:cNvPr id="52" name="Rettangolo 7"/>
          <p:cNvSpPr/>
          <p:nvPr/>
        </p:nvSpPr>
        <p:spPr>
          <a:xfrm>
            <a:off x="814320" y="5457960"/>
            <a:ext cx="8386920" cy="642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ffffff"/>
                </a:solidFill>
                <a:latin typeface="Calibri"/>
              </a:rPr>
              <a:t>Giornata della Trasparenza</a:t>
            </a:r>
            <a:endParaRPr b="0" lang="en-US" sz="1800" spc="-1" strike="noStrike">
              <a:solidFill>
                <a:srgbClr val="000000"/>
              </a:solidFill>
              <a:latin typeface="Calibri"/>
            </a:endParaRPr>
          </a:p>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i="1" lang="en-US" sz="1800" spc="-1" strike="noStrike">
                <a:solidFill>
                  <a:srgbClr val="ffffff"/>
                </a:solidFill>
                <a:latin typeface="Calibri"/>
              </a:rPr>
              <a:t>Alessandra Di Bugno</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La sezione del PIAO che riprende il concetto di parità e trasparenza</a:t>
            </a:r>
            <a:endParaRPr b="0" lang="en-US" sz="4000" spc="-1" strike="noStrike">
              <a:solidFill>
                <a:srgbClr val="000000"/>
              </a:solidFill>
              <a:latin typeface="Calibri"/>
            </a:endParaRPr>
          </a:p>
        </p:txBody>
      </p:sp>
      <p:sp>
        <p:nvSpPr>
          <p:cNvPr id="7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000000"/>
                </a:solidFill>
                <a:latin typeface="Calibri"/>
              </a:rPr>
              <a:t>10 ) Vivere la trasparenza</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000000"/>
                </a:solidFill>
                <a:latin typeface="Calibri"/>
              </a:rPr>
              <a:t>10.1 Vivere la trasparenza in azienda</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000000"/>
                </a:solidFill>
                <a:latin typeface="Calibri"/>
              </a:rPr>
              <a:t>Il Comitato di partecipazione</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E’ impegno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400" spc="-1" strike="noStrike">
                <a:solidFill>
                  <a:srgbClr val="000000"/>
                </a:solidFill>
                <a:latin typeface="Calibri"/>
              </a:rPr>
              <a:t>Il C. U.G. (Comitato Unico di Garanzia)</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La corruzione, a tutti i livelli, trova un terreno maggiormente fertile la dove convivono situazioni di</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malessere, mancato riconoscimento del merito, demotivazione, poca trasparenza e discriminazioni.</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In tale contesto il CUG può assumere un ruolo nel complesso sistema del contrasto alla corruzione</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all’interno delle Amministrazioni pubbliche e nei rapporti che queste instaurano con l’esterno, siano</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esse altre amministrazioni pubbliche, aziende private e utenza. Infatti, il CUG proprio in quanto</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soggetto promotore di un’efficace cultura dell’etica, della trasparenza, della valorizzazione del</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merito, del contrasto alle discriminazioni, può (e deve) avere un ruolo nella prevenzione della</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corruzione.</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Nel triennio di riferimento si intende condividere con il CUG aziendale percorsi di sensibilizzazione</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alle tematiche della trasparenza, con particolare riferimento alla “Trasparenza di genere”. Se il</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bilancio di genere deve essere parte integrante della performance aziendale appare evidente che la</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trasparenza ne deve essere un importante strumento di conoscenza e condivisione. Appare</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importante esplicitare il nesso profondo tra trasparenza ed azioni di contrasto alle discriminazioni;.</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l piano di uguaglianza di genere richiamato nel PIAO</a:t>
            </a:r>
            <a:endParaRPr b="0" lang="en-US" sz="3200" spc="-1" strike="noStrike">
              <a:solidFill>
                <a:srgbClr val="000000"/>
              </a:solidFill>
              <a:latin typeface="Calibri"/>
            </a:endParaRPr>
          </a:p>
        </p:txBody>
      </p:sp>
      <p:sp>
        <p:nvSpPr>
          <p:cNvPr id="7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lgn="just">
              <a:lnSpc>
                <a:spcPct val="80000"/>
              </a:lnSpc>
              <a:spcBef>
                <a:spcPts val="349"/>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In linea con il Piano di uguaglianza di Genere (</a:t>
            </a:r>
            <a:r>
              <a:rPr b="1" lang="it-IT" sz="1400" spc="-1" strike="noStrike">
                <a:solidFill>
                  <a:srgbClr val="000000"/>
                </a:solidFill>
                <a:latin typeface="Calibri"/>
              </a:rPr>
              <a:t>Gender Equality Plan, GEP</a:t>
            </a:r>
            <a:r>
              <a:rPr b="0" lang="it-IT" sz="1400" spc="-1" strike="noStrike">
                <a:solidFill>
                  <a:srgbClr val="000000"/>
                </a:solidFill>
                <a:latin typeface="Calibri"/>
              </a:rPr>
              <a:t>) adottato Ministero della Salute si prevede per il biennio 2023-2024 l’adozione del piano di eguaglianza di genere aziendale,. IL Piano attuando le strategie interne positive (denominato precedentemente “Piano delle azioni Positive”) ed integrate, che generano benessere totale, operativo ed organizzativo, ambientale e sociale,eco-sostenibile e sanitario, e da ultimo, ma non meno importante, valore pubblico. Il tutto anche tramite le seguenti azioni :</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 </a:t>
            </a:r>
            <a:r>
              <a:rPr b="0" lang="it-IT" sz="1400" spc="-1" strike="noStrike">
                <a:solidFill>
                  <a:srgbClr val="000000"/>
                </a:solidFill>
                <a:latin typeface="Calibri"/>
              </a:rPr>
              <a:t>La proroga e/o ampliamento, compatibilmente con le esigenze organizzative dell’Azienda,</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misure relative a forme di flessibilità dell’orario e delle modalità di lavoro, con particolare</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riferimento all’articolazione dell’orario di servizio, forme di rapporto di lavoro parziale,</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Lavoro Agile (smart working) e Telelavoro focalizzandosi in modo particolare sulle esigenze</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di conciliazione e equilibrio vita lavoro, dando maggior attenzione a chi ha carichi di cura.</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 </a:t>
            </a:r>
            <a:r>
              <a:rPr b="0" lang="it-IT" sz="1400" spc="-1" strike="noStrike">
                <a:solidFill>
                  <a:srgbClr val="000000"/>
                </a:solidFill>
                <a:latin typeface="Calibri"/>
              </a:rPr>
              <a:t>Elaborazione di un Regolamento riguardante le “</a:t>
            </a:r>
            <a:r>
              <a:rPr b="1" lang="it-IT" sz="1400" spc="-1" strike="noStrike">
                <a:solidFill>
                  <a:srgbClr val="000000"/>
                </a:solidFill>
                <a:latin typeface="Calibri"/>
              </a:rPr>
              <a:t>Carriere ALIAS</a:t>
            </a:r>
            <a:r>
              <a:rPr b="0" lang="it-IT" sz="1400" spc="-1" strike="noStrike">
                <a:solidFill>
                  <a:srgbClr val="000000"/>
                </a:solidFill>
                <a:latin typeface="Calibri"/>
              </a:rPr>
              <a:t>” utile a promuovere e</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aumentare la sensibilità della Comunità Aziendale sul tema dell’identità di genere. Il</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dispositivo della “carriera Alias”, cioè di un'identità alternativa temporanea, che permette di</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sostituire il nome anagrafico con quello adottato, fino alla rettifica anagrafica ufficiale, si</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colloca nell’ambito della tutela dei diritti fondamentali e incontra il bisogno di garantire</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condizioni in cui il riconoscimento dell’identità di genere e fattore dirimente rispetto al</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benessere e alla qualità di studio e di lavoro. Tale strumento e finalizzato a garantire</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ambienti inclusivi e rispettosi delle differenze, anche in tema di identità di genere, al fine di</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promuovere il benessere fisico, psicologico e relazionale delle persone che studiano e</a:t>
            </a:r>
            <a:endParaRPr b="0" lang="en-US" sz="1400" spc="-1" strike="noStrike">
              <a:solidFill>
                <a:srgbClr val="000000"/>
              </a:solidFill>
              <a:latin typeface="Calibri"/>
            </a:endParaRPr>
          </a:p>
          <a:p>
            <a:pPr marL="343080" indent="-343080">
              <a:lnSpc>
                <a:spcPct val="80000"/>
              </a:lnSpc>
              <a:spcBef>
                <a:spcPts val="34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rPr>
              <a:t>lavorano.</a:t>
            </a:r>
            <a:endParaRPr b="0" lang="en-US" sz="1400" spc="-1" strike="noStrike">
              <a:solidFill>
                <a:srgbClr val="000000"/>
              </a:solidFill>
              <a:latin typeface="Calibri"/>
            </a:endParaRPr>
          </a:p>
          <a:p>
            <a:pPr marL="343080" indent="0">
              <a:lnSpc>
                <a:spcPct val="80000"/>
              </a:lnSpc>
              <a:spcBef>
                <a:spcPts val="34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000" spc="-1" strike="noStrike">
                <a:solidFill>
                  <a:srgbClr val="000000"/>
                </a:solidFill>
                <a:latin typeface="Calibri"/>
              </a:rPr>
              <a:t>Gep ( piano di uguaglianza di genere) della ASLTNO</a:t>
            </a:r>
            <a:endParaRPr b="0" lang="en-US" sz="4000" spc="-1" strike="noStrike">
              <a:solidFill>
                <a:srgbClr val="000000"/>
              </a:solidFill>
              <a:latin typeface="Calibri"/>
            </a:endParaRPr>
          </a:p>
        </p:txBody>
      </p:sp>
      <p:sp>
        <p:nvSpPr>
          <p:cNvPr id="7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000000"/>
                </a:solidFill>
                <a:latin typeface="Calibri"/>
              </a:rPr>
              <a:t> </a:t>
            </a:r>
            <a:r>
              <a:rPr b="1" lang="it-IT" sz="3200" spc="-1" strike="noStrike">
                <a:solidFill>
                  <a:srgbClr val="000000"/>
                </a:solidFill>
                <a:latin typeface="Calibri"/>
              </a:rPr>
              <a:t>DELIBERAZIONE DEL DIRETTORE GENERAL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000000"/>
                </a:solidFill>
                <a:latin typeface="Calibri"/>
              </a:rPr>
              <a:t>N. 42 del 31/01/2022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3200" spc="-1" strike="noStrike">
                <a:solidFill>
                  <a:srgbClr val="000000"/>
                </a:solidFill>
                <a:latin typeface="Calibri"/>
              </a:rPr>
              <a:t>OGGETTO: Adozione del Piano Integrato di Attività e Organizzazione (PIAO) 2023 2025 e del Piano di Uguaglianza di Genere (Gender Equality Plan, GEP).</a:t>
            </a:r>
            <a:r>
              <a:rPr b="0" lang="it-IT" sz="3200" spc="-1" strike="noStrike">
                <a:solidFill>
                  <a:srgbClr val="000000"/>
                </a:solidFill>
                <a:latin typeface="Calibri"/>
              </a:rPr>
              <a:t>	</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4000" spc="-1" strike="noStrike">
                <a:solidFill>
                  <a:srgbClr val="000000"/>
                </a:solidFill>
                <a:latin typeface="Calibri"/>
              </a:rPr>
              <a:t>Gep ( piano di uguaglianza di genere) della ASLTNO</a:t>
            </a:r>
            <a:endParaRPr b="0" lang="en-US" sz="4000" spc="-1" strike="noStrike">
              <a:solidFill>
                <a:srgbClr val="000000"/>
              </a:solidFill>
              <a:latin typeface="Calibri"/>
            </a:endParaRPr>
          </a:p>
        </p:txBody>
      </p:sp>
      <p:sp>
        <p:nvSpPr>
          <p:cNvPr id="7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l piano di uguaglianza di genere è un documento che deve contenere  azioni e obiettivi in linea con il Piano Integrato di Attività e Organizzazione (PIAO), parimenti ad altri piani programmatici ai sensi dell’art. 6 del decreto legge 9 giugno 2021, n.80, recante “Misure urgenti per il rafforzamento della capacità amministrativa delle pubbliche amministrazioni”;</a:t>
            </a: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L GEP E PIANO DELLE AZIONI POSITIVE</a:t>
            </a:r>
            <a:endParaRPr b="0" lang="en-US" sz="3200" spc="-1" strike="noStrike">
              <a:solidFill>
                <a:srgbClr val="000000"/>
              </a:solidFill>
              <a:latin typeface="Calibri"/>
            </a:endParaRPr>
          </a:p>
        </p:txBody>
      </p:sp>
      <p:sp>
        <p:nvSpPr>
          <p:cNvPr id="7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Il Piano, che si sviluppa in coerenza al </a:t>
            </a:r>
            <a:r>
              <a:rPr b="0" lang="en-US" sz="2400" spc="-1" strike="noStrike" u="sng">
                <a:solidFill>
                  <a:srgbClr val="0000ff"/>
                </a:solidFill>
                <a:uFillTx/>
                <a:latin typeface="Calibri"/>
                <a:hlinkClick r:id="rId1"/>
              </a:rPr>
              <a:t>Piano triennale delle azioni positive</a:t>
            </a:r>
            <a:r>
              <a:rPr b="0" lang="en-US" sz="2400" spc="-1" strike="noStrike">
                <a:solidFill>
                  <a:srgbClr val="000000"/>
                </a:solidFill>
                <a:latin typeface="Calibri"/>
              </a:rPr>
              <a:t> 2022–2024 da cui prende le mosse, racchiude l’insieme degli impegni e delle azioni che mirano a </a:t>
            </a:r>
            <a:r>
              <a:rPr b="1" lang="en-US" sz="2400" spc="-1" strike="noStrike">
                <a:solidFill>
                  <a:srgbClr val="000000"/>
                </a:solidFill>
                <a:latin typeface="Calibri"/>
              </a:rPr>
              <a:t>promuovere la parità di genere</a:t>
            </a:r>
            <a:r>
              <a:rPr b="0" lang="en-US" sz="2400" spc="-1" strike="noStrike">
                <a:solidFill>
                  <a:srgbClr val="000000"/>
                </a:solidFill>
                <a:latin typeface="Calibri"/>
              </a:rPr>
              <a:t> all'interno di un'organizzazione, favorendo la trasformazione sostenibile di processi, culture e strutture organizzative e rispondendo alle esigenze e agli obiettivi dell'organizzazione specifica. </a:t>
            </a:r>
            <a:endParaRPr b="0" lang="en-US" sz="2400" spc="-1" strike="noStrike">
              <a:solidFill>
                <a:srgbClr val="000000"/>
              </a:solidFill>
              <a:latin typeface="Calibri"/>
            </a:endParaRPr>
          </a:p>
          <a:p>
            <a:pPr marL="343080" indent="0">
              <a:lnSpc>
                <a:spcPct val="9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a:p>
            <a:pPr marL="343080" indent="-343080">
              <a:lnSpc>
                <a:spcPct val="9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400" spc="-1" strike="noStrike">
                <a:solidFill>
                  <a:srgbClr val="000000"/>
                </a:solidFill>
                <a:latin typeface="Calibri"/>
              </a:rPr>
              <a:t>Mentre Il Piano triennale delle azioni positive contiene azioni operative e temporanee,  il GEP è un documento programmatico trasversale  necessario per aderire a progetti coperti da finanziamenti europei </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3200" spc="-1" strike="noStrike">
                <a:solidFill>
                  <a:srgbClr val="000000"/>
                </a:solidFill>
                <a:latin typeface="Calibri"/>
              </a:rPr>
              <a:t>Segue il Gep ( piano di uguaglianza di genere)</a:t>
            </a:r>
            <a:endParaRPr b="0" lang="en-US" sz="3200" spc="-1" strike="noStrike">
              <a:solidFill>
                <a:srgbClr val="000000"/>
              </a:solidFill>
              <a:latin typeface="Calibri"/>
            </a:endParaRPr>
          </a:p>
        </p:txBody>
      </p:sp>
      <p:sp>
        <p:nvSpPr>
          <p:cNvPr id="8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800" spc="-1" strike="noStrike">
                <a:solidFill>
                  <a:srgbClr val="000000"/>
                </a:solidFill>
                <a:latin typeface="Calibri"/>
              </a:rPr>
              <a:t>E’ un documento programmatico finalizzato alla realizzazione di azioni e progetti che favoriscano la riduzione delle asimmetrie di genere, e permettano al contempo la valorizzazione di tutte le diversità legate ad esempio alle variabili dell’età, della cultura, dell’abilità fisica, dell’orientamento sessuale, del plurilinguismo ed è articolato nelle seguenti cinque aree di intervento: </a:t>
            </a:r>
            <a:endParaRPr b="0" lang="en-US" sz="1800" spc="-1" strike="noStrike">
              <a:solidFill>
                <a:srgbClr val="000000"/>
              </a:solidFill>
              <a:latin typeface="Calibri"/>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AREA 1.Equilibrio vita privata/vita professionale e cultura dell’organizzazione; </a:t>
            </a:r>
            <a:endParaRPr b="0" lang="en-US" sz="1600" spc="-1" strike="noStrike">
              <a:solidFill>
                <a:srgbClr val="000000"/>
              </a:solidFill>
              <a:latin typeface="Calibri"/>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AREA 2.Equilibrio di genere nelle posizioni di vertice e negli organi decisionali; </a:t>
            </a:r>
            <a:endParaRPr b="0" lang="en-US" sz="1600" spc="-1" strike="noStrike">
              <a:solidFill>
                <a:srgbClr val="000000"/>
              </a:solidFill>
              <a:latin typeface="Calibri"/>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AREA 3.Uguaglianza di genere nel reclutamento e nelle progressioni di carriera; </a:t>
            </a:r>
            <a:endParaRPr b="0" lang="en-US" sz="1600" spc="-1" strike="noStrike">
              <a:solidFill>
                <a:srgbClr val="000000"/>
              </a:solidFill>
              <a:latin typeface="Calibri"/>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AREA 4.Integrazione della dimensione di genere nelle attività assistenziale, ricerca e formazione </a:t>
            </a:r>
            <a:endParaRPr b="0" lang="en-US" sz="1600" spc="-1" strike="noStrike">
              <a:solidFill>
                <a:srgbClr val="000000"/>
              </a:solidFill>
              <a:latin typeface="Calibri"/>
            </a:endParaRPr>
          </a:p>
          <a:p>
            <a:pPr marL="343080" indent="0">
              <a:lnSpc>
                <a:spcPct val="80000"/>
              </a:lnSpc>
              <a:spcBef>
                <a:spcPts val="45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a:p>
            <a:pPr lvl="1" marL="743040" indent="-285840">
              <a:lnSpc>
                <a:spcPct val="80000"/>
              </a:lnSpc>
              <a:spcBef>
                <a:spcPts val="400"/>
              </a:spcBef>
              <a:buClr>
                <a:srgbClr val="000000"/>
              </a:buClr>
              <a:buFont typeface="Arial"/>
              <a:buChar char="–"/>
              <a:tabLst>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 algn="l" pos="9601200"/>
              </a:tabLst>
            </a:pPr>
            <a:r>
              <a:rPr b="0" lang="en-US" sz="1600" spc="-1" strike="noStrike">
                <a:solidFill>
                  <a:srgbClr val="000000"/>
                </a:solidFill>
                <a:latin typeface="Calibri"/>
              </a:rPr>
              <a:t>AREA 5.Contrasto della violenza di genere, comprese le molestie sessuali.</a:t>
            </a:r>
            <a:endParaRPr b="0" lang="en-US" sz="1600" spc="-1" strike="noStrike">
              <a:solidFill>
                <a:srgbClr val="000000"/>
              </a:solidFill>
              <a:latin typeface="Calibri"/>
            </a:endParaRPr>
          </a:p>
        </p:txBody>
      </p:sp>
      <p:sp>
        <p:nvSpPr>
          <p:cNvPr id="82" name=""/>
          <p:cNvSpPr/>
          <p:nvPr/>
        </p:nvSpPr>
        <p:spPr>
          <a:xfrm>
            <a:off x="2286000" y="-345960"/>
            <a:ext cx="4572000" cy="1041480"/>
          </a:xfrm>
          <a:prstGeom prst="rect">
            <a:avLst/>
          </a:prstGeom>
          <a:noFill/>
          <a:ln w="0">
            <a:noFill/>
          </a:ln>
        </p:spPr>
        <p:style>
          <a:lnRef idx="0"/>
          <a:fillRef idx="0"/>
          <a:effectRef idx="0"/>
          <a:fontRef idx="minor"/>
        </p:style>
        <p:txBody>
          <a:bodyPr lIns="90000" rIns="90000" tIns="46800" bIns="46800" anchor="t">
            <a:sp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gn="r">
              <a:lnSpc>
                <a:spcPct val="80000"/>
              </a:lnSpc>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000" spc="-1" strike="noStrike">
                <a:solidFill>
                  <a:srgbClr val="000000"/>
                </a:solidFill>
                <a:latin typeface="Calibri"/>
              </a:rPr>
              <a:t>AREA 2.Equilibrio di genere nelle posizioni di vertice e negli organi decisionali</a:t>
            </a:r>
            <a:r>
              <a:rPr b="0" lang="en-US" sz="4000" spc="-1" strike="noStrike">
                <a:solidFill>
                  <a:srgbClr val="000000"/>
                </a:solidFill>
                <a:latin typeface="Calibri"/>
              </a:rPr>
              <a:t> </a:t>
            </a:r>
            <a:br>
              <a:rPr sz="4000"/>
            </a:br>
            <a:endParaRPr b="0" lang="en-US" sz="4000" spc="-1" strike="noStrike">
              <a:solidFill>
                <a:srgbClr val="000000"/>
              </a:solidFill>
              <a:latin typeface="Calibri"/>
            </a:endParaRPr>
          </a:p>
        </p:txBody>
      </p:sp>
      <p:sp>
        <p:nvSpPr>
          <p:cNvPr id="8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alibri"/>
              </a:rPr>
              <a:t>AZIONE 2.2 IMPLEMENTAZIONE DELLE NORME SULLA TRASPARENZA- ANTICORRUZIO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alibri"/>
              </a:rPr>
              <a:t>Breve descrizion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Rendere trasparenti e dare massima diffusione alle corrette regole di comportament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per il superamento delle diseguaglianze delle discriminazion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 Promozione della diffusione del codice di condotta aziendale che contempla un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sezione (in particolare art. 13) dedicata alla lotta alle discriminazioni, non solo nei</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confronti del personale dipendente, ma anche nei confronti di tutti i soggetti che 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vario titolo collaborano con l’Azienda.</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 Regolamentazione formale della costituzione delle varie commissioni aziendali con</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esplicito richiamo ed effettivo rispetto della parita di gener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 Partecipazione del Responsabile della prevenzione della corruzione e/o</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Responsabile della trasparenza o di un componente dell’ufficio di supporto alle</a:t>
            </a:r>
            <a:endParaRPr b="0" lang="en-US" sz="1800" spc="-1" strike="noStrike">
              <a:solidFill>
                <a:srgbClr val="000000"/>
              </a:solidFill>
              <a:latin typeface="Calibri"/>
            </a:endParaRPr>
          </a:p>
          <a:p>
            <a:pPr marL="343080" indent="-343080">
              <a:lnSpc>
                <a:spcPct val="80000"/>
              </a:lnSpc>
              <a:spcBef>
                <a:spcPts val="45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riunioni del CUG per favorire costantemente la trasparenza nei percorsi di garanzia</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000" spc="-1" strike="noStrike">
                <a:solidFill>
                  <a:srgbClr val="000000"/>
                </a:solidFill>
                <a:latin typeface="Calibri"/>
              </a:rPr>
              <a:t>ULTIMA DIRETTIVA UE 970/ maggio 2023</a:t>
            </a:r>
            <a:endParaRPr b="0" lang="en-US" sz="4000" spc="-1" strike="noStrike">
              <a:solidFill>
                <a:srgbClr val="000000"/>
              </a:solidFill>
              <a:latin typeface="Calibri"/>
            </a:endParaRPr>
          </a:p>
        </p:txBody>
      </p:sp>
      <p:sp>
        <p:nvSpPr>
          <p:cNvPr id="8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direttiva 970 rafforza il principio della parità di retribuzione tra uomini e donne per lo stesso lavoro o per un lavoro di pari valore attraverso la trasparenza retributiva con obbligo agli stati membri di conformarsi entro il 7 giugno 2026</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Parità e trasparenza retributiva </a:t>
            </a:r>
            <a:endParaRPr b="0" lang="en-US" sz="4400" spc="-1" strike="noStrike">
              <a:solidFill>
                <a:srgbClr val="000000"/>
              </a:solidFill>
              <a:latin typeface="Calibri"/>
            </a:endParaRPr>
          </a:p>
        </p:txBody>
      </p:sp>
      <p:sp>
        <p:nvSpPr>
          <p:cNvPr id="8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direttiva 970 oltre alla parità retributiva impone :</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 trasparenza retributiva prima dell’assunzione per coloro che affronteranno selezioni /concorsi</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L’accessibilità ai lavoratori dei criteri utilizzati per determinare la retribuzione , i livelli retributivi e la loro progressione economica. </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36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4000"/>
            </a:br>
            <a:br>
              <a:rPr sz="4000"/>
            </a:br>
            <a:endParaRPr b="0" lang="en-US" sz="4000" spc="-1" strike="noStrike">
              <a:solidFill>
                <a:srgbClr val="000000"/>
              </a:solidFill>
              <a:latin typeface="Calibri"/>
            </a:endParaRPr>
          </a:p>
        </p:txBody>
      </p:sp>
      <p:sp>
        <p:nvSpPr>
          <p:cNvPr id="90"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lgn="ctr">
              <a:spcBef>
                <a:spcPts val="1650"/>
              </a:spcBef>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6600" spc="-1" strike="noStrike">
                <a:solidFill>
                  <a:srgbClr val="000000"/>
                </a:solidFill>
                <a:latin typeface="Calibri"/>
              </a:rPr>
              <a:t>Grazie </a:t>
            </a:r>
            <a:endParaRPr b="0" lang="en-US" sz="6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Rectangle 3"/>
          <p:cNvSpPr/>
          <p:nvPr/>
        </p:nvSpPr>
        <p:spPr>
          <a:xfrm>
            <a:off x="558720" y="2324160"/>
            <a:ext cx="8002800" cy="2070000"/>
          </a:xfrm>
          <a:prstGeom prst="rect">
            <a:avLst/>
          </a:prstGeom>
          <a:noFill/>
          <a:ln w="9360">
            <a:solidFill>
              <a:srgbClr val="ffffff"/>
            </a:solidFill>
            <a:miter/>
          </a:ln>
        </p:spPr>
        <p:style>
          <a:lnRef idx="0"/>
          <a:fillRef idx="0"/>
          <a:effectRef idx="0"/>
          <a:fontRef idx="minor"/>
        </p:style>
        <p:txBody>
          <a:bodyPr lIns="90000" rIns="90000" tIns="46800" bIns="46800" anchor="t">
            <a:noAutofit/>
          </a:bodyPr>
          <a:p>
            <a:pPr marL="343080" indent="-343080" algn="just">
              <a:lnSpc>
                <a:spcPct val="100000"/>
              </a:lnSpc>
              <a:spcBef>
                <a:spcPts val="751"/>
              </a:spcBef>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4" name=""/>
          <p:cNvSpPr/>
          <p:nvPr/>
        </p:nvSpPr>
        <p:spPr>
          <a:xfrm>
            <a:off x="7270920" y="5529240"/>
            <a:ext cx="183960" cy="366840"/>
          </a:xfrm>
          <a:prstGeom prst="rect">
            <a:avLst/>
          </a:prstGeom>
          <a:noFill/>
          <a:ln w="0">
            <a:noFill/>
          </a:ln>
        </p:spPr>
        <p:style>
          <a:lnRef idx="0"/>
          <a:fillRef idx="0"/>
          <a:effectRef idx="0"/>
          <a:fontRef idx="minor"/>
        </p:style>
        <p:txBody>
          <a:bodyPr wrap="none" lIns="90000" rIns="90000" tIns="46800" bIns="46800" anchor="ctr">
            <a:spAutoFit/>
          </a:bodyPr>
          <a:p>
            <a:pPr marL="343080" indent="-343080"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5" name=""/>
          <p:cNvSpPr/>
          <p:nvPr/>
        </p:nvSpPr>
        <p:spPr>
          <a:xfrm>
            <a:off x="252360" y="595440"/>
            <a:ext cx="8013600" cy="5392440"/>
          </a:xfrm>
          <a:prstGeom prst="rect">
            <a:avLst/>
          </a:prstGeom>
          <a:noFill/>
          <a:ln w="0">
            <a:noFill/>
          </a:ln>
        </p:spPr>
        <p:style>
          <a:lnRef idx="0"/>
          <a:fillRef idx="0"/>
          <a:effectRef idx="0"/>
          <a:fontRef idx="minor"/>
        </p:style>
        <p:txBody>
          <a:bodyPr lIns="90000" rIns="90000" tIns="46800" bIns="46800" anchor="ctr">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alibri"/>
                <a:ea typeface="Arial Unicode MS"/>
              </a:rPr>
              <a:t>La Costituzione</a:t>
            </a:r>
            <a:endParaRPr b="0" lang="en-US" sz="18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ea typeface="Arial Unicode MS"/>
              </a:rPr>
              <a:t>L’articolo 3 della Costituzione sancisce il principio di eguaglianza. Il comma 2 recita “è compito della repubblica rimuovere gli ostacoli di ordine economico e sociale, che, limitando di fatto la libertà e l’eguaglianza dei cittadini impediscono il pieno sviluppo della persona umana e l’effettiva partecipazione di tutti i lavoratori all’organizzazione politica, economica e sociale del paese </a:t>
            </a:r>
            <a:endParaRPr b="0" lang="en-US" sz="14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ea typeface="Arial Unicode MS"/>
              </a:rPr>
              <a:t>L’articolo 37 sancisce che la donna lavoratrice ha gli stessi diritti e, a parità di lavoro, le stesse retribuzioni che spettano al lavoratore. Il 2 comma , 2 periodo, stabilisce che le condizioni di lavoro devono consentire l’adempimento della sua essenziale funzione familiare e assicurare alla madre e al bambino una speciale adeguata protezione </a:t>
            </a:r>
            <a:endParaRPr b="0" lang="en-US" sz="14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ea typeface="Arial Unicode MS"/>
              </a:rPr>
              <a:t>L’articolo 51 stabilisce che tutti i cittadini dell’uno e dell’altro sesso possono accedere agli uffici pubblici e alle cariche elettive in condizioni di eguaglianza , secondo i requisiti stabiliti dalla legge, attribuisce alla repubblica il compito di promuovere con appositi provvedimenti le pari opportunità tra donne e uomini. (comma riformato con legge costituzionale 30 maggio 2003).</a:t>
            </a:r>
            <a:endParaRPr b="0" lang="en-US" sz="14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alibri"/>
                <a:ea typeface="Arial Unicode MS"/>
              </a:rPr>
              <a:t>Il contesto normativo europeo</a:t>
            </a:r>
            <a:endParaRPr b="0" lang="en-US" sz="18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ea typeface="Arial Unicode MS"/>
              </a:rPr>
              <a:t>L’art.119 del trattato costitutivo della comunità economica europea del 1957 ora divenuto art. 141 del trattato comunità europea sancisce il diritto alla parità retributiva . A tale diritto si è andato formando un concetto più ampio di pari opportunità comprensivo della parità di trattamento relativa all’accesso al lavoro, alla formazione e alla promozione professionale e più in generale alle condizioni di lavoro . </a:t>
            </a:r>
            <a:endParaRPr b="0" lang="en-US" sz="14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alibri"/>
                <a:ea typeface="Arial Unicode MS"/>
              </a:rPr>
              <a:t>Normativa nazionale</a:t>
            </a:r>
            <a:endParaRPr b="0" lang="en-US" sz="18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400" spc="-1" strike="noStrike">
                <a:solidFill>
                  <a:srgbClr val="000000"/>
                </a:solidFill>
                <a:latin typeface="Calibri"/>
                <a:ea typeface="Arial Unicode MS"/>
              </a:rPr>
              <a:t>Tra le normative più importanti si ricordano la legge n.903 del 1977 sulla parità di trattamento tra uomini e donne in materia di lavoro, la legge n.125 del 1991 sulle azioni positive per la parità uomo –donna in materia di lavoro , DLGS 196 del 2000 che disciplina le funzioni del consigliere  ed dei consiglieri di parità , D.Lgs 215 del 2003 che estende il principio di parità di trattamento tra le persone indipendentemente dalla razza e dall’origine etnica , ecc.</a:t>
            </a: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CasellaDiTesto 2"/>
          <p:cNvSpPr/>
          <p:nvPr/>
        </p:nvSpPr>
        <p:spPr>
          <a:xfrm>
            <a:off x="1260360" y="4361040"/>
            <a:ext cx="5988240" cy="366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57" name="CasellaDiTesto 4"/>
          <p:cNvSpPr/>
          <p:nvPr/>
        </p:nvSpPr>
        <p:spPr>
          <a:xfrm>
            <a:off x="230040" y="301680"/>
            <a:ext cx="8601120" cy="5235480"/>
          </a:xfrm>
          <a:prstGeom prst="rect">
            <a:avLst/>
          </a:prstGeom>
          <a:solidFill>
            <a:srgbClr val="dce6f2"/>
          </a:solid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alibri"/>
              </a:rPr>
              <a:t>IL CODICE Delle Pari Opportunità</a:t>
            </a:r>
            <a:endParaRPr b="0" lang="en-US" sz="18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alibri"/>
              </a:rPr>
              <a:t>Il decreto legislativo n. </a:t>
            </a:r>
            <a:r>
              <a:rPr b="0" lang="it-IT" sz="1600" spc="-1" strike="noStrike" u="sng">
                <a:solidFill>
                  <a:srgbClr val="000000"/>
                </a:solidFill>
                <a:uFillTx/>
                <a:latin typeface="Calibri"/>
              </a:rPr>
              <a:t>198 del 2006</a:t>
            </a:r>
            <a:r>
              <a:rPr b="0" lang="it-IT" sz="1600" spc="-1" strike="noStrike">
                <a:solidFill>
                  <a:srgbClr val="000000"/>
                </a:solidFill>
                <a:latin typeface="Calibri"/>
              </a:rPr>
              <a:t> cd. Codice delle opportunità tra uomo e donna . Il codice ha poi subito negli anni varie modifiche ed aggiornamenti tra cui il Dlgs n.5 del 2000 disciplinante il diritto di parità in materia di occupazione ed impiego e dal Dlgs n.151 del 2015 .</a:t>
            </a:r>
            <a:endParaRPr b="0" lang="en-US" sz="16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alibri"/>
              </a:rPr>
              <a:t>Il codice sulle pari opportunità ha finalmente raccolto in maniera organica la quasi totalità delle disposizioni in materia attraverso l’individuazione di varie forme di discriminazione e ponendo il divieto di disparità di trattamento basata sul genere in qualsiasi campo : nei rapporti economici, di lavoro, sociali, civili e politici .</a:t>
            </a:r>
            <a:endParaRPr b="0" lang="en-US" sz="16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alibri"/>
              </a:rPr>
              <a:t>L’art. 1 , comma 2 </a:t>
            </a:r>
            <a:r>
              <a:rPr b="0" i="1" lang="it-IT" sz="1600" spc="-1" strike="noStrike">
                <a:solidFill>
                  <a:srgbClr val="000000"/>
                </a:solidFill>
                <a:latin typeface="Calibri"/>
              </a:rPr>
              <a:t>“ la parità di trattamento e di opportunità tra uomini e donne deve essere assicurata in tutti i campi , compresi quelli dell’occupazione, del lavoro e della retribuzione “.</a:t>
            </a:r>
            <a:endParaRPr b="0" lang="en-US" sz="16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alibri"/>
              </a:rPr>
              <a:t> </a:t>
            </a:r>
            <a:r>
              <a:rPr b="0" lang="it-IT" sz="1600" spc="-1" strike="noStrike">
                <a:solidFill>
                  <a:srgbClr val="000000"/>
                </a:solidFill>
                <a:latin typeface="Calibri"/>
              </a:rPr>
              <a:t>Il codice identifica una precisa organizzazione strutturale deputata a porre in essere </a:t>
            </a:r>
            <a:r>
              <a:rPr b="0" i="1" lang="it-IT" sz="1600" spc="-1" strike="noStrike">
                <a:solidFill>
                  <a:srgbClr val="000000"/>
                </a:solidFill>
                <a:latin typeface="Calibri"/>
              </a:rPr>
              <a:t>tutte le misure volte ad eliminare ogni discriminazione basata sul sesso , sul piano economico , sociale, culturale e civile o in ogni altro campo. </a:t>
            </a:r>
            <a:endParaRPr b="0" lang="en-US" sz="16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alibri"/>
              </a:rPr>
              <a:t> </a:t>
            </a:r>
            <a:r>
              <a:rPr b="0" lang="it-IT" sz="1600" spc="-1" strike="noStrike">
                <a:solidFill>
                  <a:srgbClr val="000000"/>
                </a:solidFill>
                <a:latin typeface="Calibri"/>
              </a:rPr>
              <a:t>Emergono con il codice i concetti di discriminazione diretta e indiretta  ribaditi nelle successive direttive comunitarie 73/2002 e 54/2006</a:t>
            </a:r>
            <a:endParaRPr b="0" lang="en-US" sz="16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Calibri"/>
              </a:rPr>
              <a:t>Discriminazione diretta</a:t>
            </a:r>
            <a:r>
              <a:rPr b="0" lang="it-IT" sz="1600" spc="-1" strike="noStrike">
                <a:solidFill>
                  <a:srgbClr val="000000"/>
                </a:solidFill>
                <a:latin typeface="Calibri"/>
              </a:rPr>
              <a:t> qualsiasi atto o comportamento che produce un effetto pregiudizievole discriminando anche indirettamente i lavoratori in ragione del sesso  </a:t>
            </a:r>
            <a:endParaRPr b="0" lang="en-US" sz="16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600" spc="-1" strike="noStrike">
                <a:solidFill>
                  <a:srgbClr val="000000"/>
                </a:solidFill>
                <a:latin typeface="Calibri"/>
              </a:rPr>
              <a:t>Discriminazione indiretta</a:t>
            </a:r>
            <a:r>
              <a:rPr b="0" lang="it-IT" sz="1600" spc="-1" strike="noStrike">
                <a:solidFill>
                  <a:srgbClr val="000000"/>
                </a:solidFill>
                <a:latin typeface="Calibri"/>
              </a:rPr>
              <a:t> ogni trattamento pregiudizievole o comportamento apparentemente neutro conseguente all’adozione di criteri che svantaggiano  in modo proporzionalmente maggiore i lavoratori dell’uno o dell’altro sesso e riguardino requisiti non essenziali allo svolgimento dell’attività lavorativa</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Il CUG della ASLTNO</a:t>
            </a:r>
            <a:endParaRPr b="0" lang="en-US" sz="4400" spc="-1" strike="noStrike">
              <a:solidFill>
                <a:srgbClr val="000000"/>
              </a:solidFill>
              <a:latin typeface="Calibri"/>
            </a:endParaRPr>
          </a:p>
        </p:txBody>
      </p:sp>
      <p:sp>
        <p:nvSpPr>
          <p:cNvPr id="5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0">
              <a:spcBef>
                <a:spcPts val="7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000000"/>
                </a:solidFill>
                <a:latin typeface="Calibri"/>
              </a:rPr>
              <a:t>DELIBERAZIONE DEL DIRETTORE GENERALE </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000000"/>
                </a:solidFill>
                <a:latin typeface="Calibri"/>
              </a:rPr>
              <a:t>N. 1176 del 24/12/2019</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2800" spc="-1" strike="noStrike">
                <a:solidFill>
                  <a:srgbClr val="000000"/>
                </a:solidFill>
                <a:latin typeface="Calibri"/>
              </a:rPr>
              <a:t>OGGETTO: Comitato Unico Garanzia (C.U.G.) per le pari opportunità , la valorizzazione del benessere di chi lavora e contro le discriminazioni -</a:t>
            </a:r>
            <a:endParaRPr b="0" lang="en-US" sz="28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a:p>
            <a:pPr marL="343080" indent="0">
              <a:spcBef>
                <a:spcPts val="799"/>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0" name="CasellaDiTesto 12"/>
          <p:cNvSpPr/>
          <p:nvPr/>
        </p:nvSpPr>
        <p:spPr>
          <a:xfrm>
            <a:off x="876240" y="587520"/>
            <a:ext cx="697860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Calibri"/>
            </a:endParaRPr>
          </a:p>
        </p:txBody>
      </p:sp>
      <p:sp>
        <p:nvSpPr>
          <p:cNvPr id="61" name="CasellaDiTesto 13"/>
          <p:cNvSpPr/>
          <p:nvPr/>
        </p:nvSpPr>
        <p:spPr>
          <a:xfrm>
            <a:off x="876240" y="587520"/>
            <a:ext cx="7442280" cy="5580360"/>
          </a:xfrm>
          <a:prstGeom prst="rect">
            <a:avLst/>
          </a:prstGeom>
          <a:solidFill>
            <a:srgbClr val="c6d9f1"/>
          </a:solidFill>
          <a:ln w="0">
            <a:noFill/>
          </a:ln>
        </p:spPr>
        <p:style>
          <a:lnRef idx="0"/>
          <a:fillRef idx="0"/>
          <a:effectRef idx="0"/>
          <a:fontRef idx="minor"/>
        </p:style>
        <p:txBody>
          <a:bodyPr lIns="90000" rIns="90000" tIns="46800" bIns="46800" anchor="t">
            <a:spAutoFit/>
          </a:bodyPr>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it-IT" sz="1800" spc="-1" strike="noStrike">
                <a:solidFill>
                  <a:srgbClr val="000000"/>
                </a:solidFill>
                <a:latin typeface="Calibri"/>
              </a:rPr>
              <a:t>La Nascita del Comitato unico di garanzia per le pari opportunità, la valorizzazione del benessere di chi lavora e contro le discriminazioni</a:t>
            </a:r>
            <a:endParaRPr b="0" lang="en-US" sz="18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l’art.57 del DLgs 165del 2001 riformato dalla legge n.83 del 2010 prevede la istituzione obbligatoria all’interno di ciascuna PA di appositi Comitati unici di garanzia per le pari opportunità, la valorizzazione del benessere di chi lavora e contro le discriminazioni ( CUG) che sostituiscono assumendone le funzioni previste dai contratti collettivi del comitato delle pari opportunità e comitato  sul fenomeno del mobbing.</a:t>
            </a:r>
            <a:endParaRPr b="0" lang="en-US" sz="18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Composizione : Il Cug è un organismo paritetico composto da membri designati dalle organizzazioni sindacali e dall’amministrazione con ruoli consultivi, propositivi e di controllo in relazione alla tutela dalle discriminazioni ed al rispetto del principio di pari opportunità . La competenza del CUG è più ampia rispetto ai precedenti comitati in quanto  debbono assicurare un ambiente di lavoro improntato al benessere organizzativo , contrastare qualsiasi forma di violenza morale e psichica nei confronti dei lavoratori contribuendo ad ottimizzare la produttività del lavoro </a:t>
            </a:r>
            <a:endParaRPr b="0" lang="en-US" sz="1800" spc="-1" strike="noStrike">
              <a:solidFill>
                <a:srgbClr val="000000"/>
              </a:solidFill>
              <a:latin typeface="Calibri"/>
            </a:endParaRPr>
          </a:p>
          <a:p>
            <a:pPr algn="just">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800" spc="-1" strike="noStrike">
                <a:solidFill>
                  <a:srgbClr val="000000"/>
                </a:solidFill>
                <a:latin typeface="Calibri"/>
              </a:rPr>
              <a:t>26) la mancata costituzione del CUG è sanzionata con la previsione della responsabilità dei dirigenti incaricati della gestione del personale da valutare anche al fine del raggiungimento degli obiettivi ( art.57 , comma 5, dlgs165 del 2001 ).</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Via il piano delle azioni positive!</a:t>
            </a:r>
            <a:endParaRPr b="0" lang="en-US" sz="4400" spc="-1" strike="noStrike">
              <a:solidFill>
                <a:srgbClr val="000000"/>
              </a:solidFill>
              <a:latin typeface="Calibri"/>
            </a:endParaRPr>
          </a:p>
        </p:txBody>
      </p:sp>
      <p:sp>
        <p:nvSpPr>
          <p:cNvPr id="63"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3200" spc="-1" strike="noStrike">
                <a:solidFill>
                  <a:srgbClr val="000000"/>
                </a:solidFill>
                <a:latin typeface="Calibri"/>
              </a:rPr>
              <a:t>Il piano delle  azioni positive reso obbligatorio dalla direttiva n. 2 del 2019 della Presidenza del Consiglio dei ministri “Linee guida sulle modalità di funzionamento dei Comitati Unici di Garanzia per le pari opportunità , la valorizzazione del benessere di chi lavora e contro le discriminazioni “è confluito nel piano integrato PIAO</a:t>
            </a:r>
            <a:endParaRPr b="0" lang="en-US" sz="3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2800" spc="-1" strike="noStrike">
                <a:solidFill>
                  <a:srgbClr val="000000"/>
                </a:solidFill>
                <a:latin typeface="Calibri"/>
              </a:rPr>
              <a:t>Sezione parità e equilibrio di genere prevista nel  piano integrato di attività e organizzazione ( PIAO)</a:t>
            </a:r>
            <a:endParaRPr b="0" lang="en-US" sz="2800" spc="-1" strike="noStrike">
              <a:solidFill>
                <a:srgbClr val="000000"/>
              </a:solidFill>
              <a:latin typeface="Calibri"/>
            </a:endParaRPr>
          </a:p>
        </p:txBody>
      </p:sp>
      <p:sp>
        <p:nvSpPr>
          <p:cNvPr id="65"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 </a:t>
            </a:r>
            <a:r>
              <a:rPr b="1" lang="it-IT" sz="1200" spc="-1" strike="noStrike">
                <a:solidFill>
                  <a:srgbClr val="000000"/>
                </a:solidFill>
                <a:latin typeface="Calibri"/>
              </a:rPr>
              <a:t>Pari opportunità e equilibrio di genere</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Il Comitato Unico di Garanzia (CUG) promuove una politica di attenzione alla persona, con l’intento</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di realizzare le migliori condizioni di benessere sul lavoro, in un ambiente favorevole, improntato alle</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relazioni interpersonali rispettose e proficue, attuando una politica di “parità di genere” tra uomini e</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donne e, al contempo, di condanna ogni forma di discriminazione.</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La questione della parità di genere rappresenta oggi uno dei temi cruciali nei diversi ambiti della</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società e in maggior misura, in quello sanitario. Per questo l’azienda, coadiuvata dal (CUG), intende</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consolidare l’utilizzo del bilancio di genere quale strumento di equità nel prossimo triennio.</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Significativi a questo proposito sono stati i momenti di confronto al tavolo regionale della Consigliera</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della pari opportunità, da cui e scaturita la proposta di un osservatorio sul genere regionale e l’avvio</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di un monitoraggio/indagine statistica sulla conciliazione dei tempi di vita e di lavoro durante la</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pandemia a livello regionale e per tutte le aziende sanitarie. Con queste ultime iniziative e stato</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avviato un percorso preparatorio alla certificazione di qualità come prevista all’articolo 46 bis del</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codice delle pari opportunità.</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Nei Codici Etici e/o di condotta sono state inoltre previste le figure dei cd. “Consiglieri e/o Consigliere</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di fiducia” e/o “Sportelli di ascolto”, figure e strumenti che per loro stessa natura, cosi come</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normativamente previsto, trovano nel CUG un importante e imprescindibile punto di riferimento. A</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livello aziendale e stata quindi istituita la figura della della consigliera di fiducia, con un ruolo</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determinante per l’attività svolta e per l’orientamento programmatico dello stesso Comitato, come</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espresso nel nuovo piano triennale</a:t>
            </a:r>
            <a:endParaRPr b="0" lang="en-US" sz="1200" spc="-1" strike="noStrike">
              <a:solidFill>
                <a:srgbClr val="000000"/>
              </a:solidFill>
              <a:latin typeface="Calibri"/>
            </a:endParaRPr>
          </a:p>
          <a:p>
            <a:pPr marL="343080" indent="-343080">
              <a:lnSpc>
                <a:spcPct val="80000"/>
              </a:lnSpc>
              <a:spcBef>
                <a:spcPts val="3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200" spc="-1" strike="noStrike">
                <a:solidFill>
                  <a:srgbClr val="000000"/>
                </a:solidFill>
                <a:latin typeface="Calibri"/>
              </a:rPr>
              <a:t> </a:t>
            </a:r>
            <a:r>
              <a:rPr b="0" lang="it-IT" sz="1200" spc="-1" strike="noStrike">
                <a:solidFill>
                  <a:srgbClr val="000000"/>
                </a:solidFill>
                <a:latin typeface="Calibri"/>
              </a:rPr>
              <a:t>Dalle tabelle sul bilancio di genere emerge che nel 70% dei casi circa, i dirigenti apicali (direttori di Dipartimento o Zona) sono uomini, cosi come nel caso dei dirigenti medici di struttura complessa, in cui le donne sono soltanto il 13%. </a:t>
            </a:r>
            <a:endParaRPr b="0" lang="en-US" sz="12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br>
              <a:rPr sz="2400"/>
            </a:br>
            <a:br>
              <a:rPr sz="2400"/>
            </a:br>
            <a:r>
              <a:rPr b="1" lang="en-US" sz="2000" spc="-1" strike="noStrike">
                <a:solidFill>
                  <a:srgbClr val="000000"/>
                </a:solidFill>
                <a:latin typeface="Calibri"/>
              </a:rPr>
              <a:t>Le azioni proposte dall’azienda, contenute anche nel nuovo piano delle azioni positive 2022-2024</a:t>
            </a:r>
            <a:r>
              <a:rPr b="0" lang="en-US" sz="2800" spc="-1" strike="noStrike">
                <a:solidFill>
                  <a:srgbClr val="000000"/>
                </a:solidFill>
                <a:latin typeface="Calibri"/>
              </a:rPr>
              <a:t> </a:t>
            </a:r>
            <a:br>
              <a:rPr sz="4000"/>
            </a:br>
            <a:endParaRPr b="0" lang="en-US" sz="2800" spc="-1" strike="noStrike">
              <a:solidFill>
                <a:srgbClr val="000000"/>
              </a:solidFill>
              <a:latin typeface="Calibri"/>
            </a:endParaRPr>
          </a:p>
        </p:txBody>
      </p:sp>
      <p:sp>
        <p:nvSpPr>
          <p:cNvPr id="6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Calibri"/>
              </a:rPr>
              <a:t>● </a:t>
            </a:r>
            <a:r>
              <a:rPr b="0" lang="it-IT" sz="2400" spc="-1" strike="noStrike">
                <a:solidFill>
                  <a:srgbClr val="000000"/>
                </a:solidFill>
                <a:latin typeface="Calibri"/>
              </a:rPr>
              <a:t>Il Rafforzamento dello Sportello di ascolto</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Calibri"/>
              </a:rPr>
              <a:t>● </a:t>
            </a:r>
            <a:r>
              <a:rPr b="0" lang="it-IT" sz="2400" spc="-1" strike="noStrike">
                <a:solidFill>
                  <a:srgbClr val="000000"/>
                </a:solidFill>
                <a:latin typeface="Calibri"/>
              </a:rPr>
              <a:t>L’analisi dei punti di forza e di debolezza del lavoro agile come strumento di conciliazione vita- lavoro e sviluppo di modelli organizzativi piu flessibili</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Calibri"/>
              </a:rPr>
              <a:t>● </a:t>
            </a:r>
            <a:r>
              <a:rPr b="0" lang="it-IT" sz="2400" spc="-1" strike="noStrike">
                <a:solidFill>
                  <a:srgbClr val="000000"/>
                </a:solidFill>
                <a:latin typeface="Calibri"/>
              </a:rPr>
              <a:t>L’applicazione progressiva e graduale nel prossimo triennio del lavoro agile quale modalità di lavoro ordinaria, in linea con quanto richiesto dalla normativa e dalle linee guida del piano organizzativo e indicatori di performance emanate dal Dipartimento della funzione Pubblica</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Calibri"/>
              </a:rPr>
              <a:t>● </a:t>
            </a:r>
            <a:r>
              <a:rPr b="0" lang="it-IT" sz="2400" spc="-1" strike="noStrike">
                <a:solidFill>
                  <a:srgbClr val="000000"/>
                </a:solidFill>
                <a:latin typeface="Calibri"/>
              </a:rPr>
              <a:t>L’Elaborazione di un set di indicatori utili a far emergere le diversita di genere anche per superare la diversità salariale tra uomini e donne a parità di livello e mansioni</a:t>
            </a:r>
            <a:endParaRPr b="0" lang="en-US" sz="2400" spc="-1" strike="noStrike">
              <a:solidFill>
                <a:srgbClr val="000000"/>
              </a:solidFill>
              <a:latin typeface="Calibri"/>
            </a:endParaRPr>
          </a:p>
          <a:p>
            <a:pPr marL="343080" indent="-343080">
              <a:lnSpc>
                <a:spcPct val="80000"/>
              </a:lnSpc>
              <a:spcBef>
                <a:spcPts val="601"/>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2400" spc="-1" strike="noStrike">
                <a:solidFill>
                  <a:srgbClr val="000000"/>
                </a:solidFill>
                <a:latin typeface="Calibri"/>
              </a:rPr>
              <a:t>● </a:t>
            </a:r>
            <a:r>
              <a:rPr b="0" lang="it-IT" sz="2400" spc="-1" strike="noStrike">
                <a:solidFill>
                  <a:srgbClr val="000000"/>
                </a:solidFill>
                <a:latin typeface="Calibri"/>
              </a:rPr>
              <a:t>L’Analisi anonima dei dati tramite la Consigliera di fiducia e proposte al CUG con revisione del piano delle azioni positive</a:t>
            </a:r>
            <a:endParaRPr b="0" lang="en-US" sz="2400" spc="-1" strike="noStrike">
              <a:solidFill>
                <a:srgbClr val="000000"/>
              </a:solidFill>
              <a:latin typeface="Calibri"/>
            </a:endParaRPr>
          </a:p>
          <a:p>
            <a:pPr marL="343080" indent="0">
              <a:lnSpc>
                <a:spcPct val="80000"/>
              </a:lnSpc>
              <a:spcBef>
                <a:spcPts val="601"/>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4400" spc="-1" strike="noStrike">
                <a:solidFill>
                  <a:srgbClr val="000000"/>
                </a:solidFill>
                <a:latin typeface="Calibri"/>
              </a:rPr>
              <a:t>Segue : le azioni</a:t>
            </a:r>
            <a:endParaRPr b="0" lang="en-US" sz="4400" spc="-1" strike="noStrike">
              <a:solidFill>
                <a:srgbClr val="000000"/>
              </a:solidFill>
              <a:latin typeface="Calibri"/>
            </a:endParaRPr>
          </a:p>
        </p:txBody>
      </p:sp>
      <p:sp>
        <p:nvSpPr>
          <p:cNvPr id="69"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alibri"/>
              </a:rPr>
              <a:t>● </a:t>
            </a:r>
            <a:r>
              <a:rPr b="0" lang="it-IT" sz="1600" spc="-1" strike="noStrike">
                <a:solidFill>
                  <a:srgbClr val="000000"/>
                </a:solidFill>
                <a:latin typeface="Calibri"/>
              </a:rPr>
              <a:t>Progettazione e realizzazione di una apposita sezione sul sito aziendale che offra una</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alibri"/>
              </a:rPr>
              <a:t>panoramica sulle iniziative, azioni e servizi dell'Azienda che promuovono l’uguaglianza di</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alibri"/>
              </a:rPr>
              <a:t>genere. All’interno di tale sezione, saranno inseriti oltre al GEP, tutti i documenti ufficiali</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alibri"/>
              </a:rPr>
              <a:t>dell'Azienda rilevanti per le policies di genere. Raccolta e mappatura delle azioni di</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alibri"/>
              </a:rPr>
              <a:t>prevenzione della salute, con particolare attenzione alla medicina di genere, presenti sul</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alibri"/>
              </a:rPr>
              <a:t>territorio</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alibri"/>
              </a:rPr>
              <a:t>Il CUG intende pertanto proseguire nel percorso di integrazione, nel rispetto delle reciproche</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alibri"/>
              </a:rPr>
              <a:t>funzioni e competenze, con il dipartimento delle risorse umane, l’organismo indipendente di</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alibri"/>
              </a:rPr>
              <a:t>valutazione (OIV) e altri settori aziendali/gruppi di lavoro istituiti, per assicurare la tutela degli operatori nel suo complesso, anche contro il fenomeno delle aggressioni nei confronti degli operatori in sanità.</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alibri"/>
              </a:rPr>
              <a:t> </a:t>
            </a:r>
            <a:r>
              <a:rPr b="0" lang="it-IT" sz="1600" spc="-1" strike="noStrike">
                <a:solidFill>
                  <a:srgbClr val="000000"/>
                </a:solidFill>
                <a:latin typeface="Calibri"/>
              </a:rPr>
              <a:t>Richiamando infine gli obiettivi di formazione sulle materie di pertinenza del Comitato per</a:t>
            </a:r>
            <a:endParaRPr b="0" lang="en-US" sz="1600" spc="-1" strike="noStrike">
              <a:solidFill>
                <a:srgbClr val="000000"/>
              </a:solidFill>
              <a:latin typeface="Calibri"/>
            </a:endParaRPr>
          </a:p>
          <a:p>
            <a:pPr marL="343080" indent="-343080">
              <a:lnSpc>
                <a:spcPct val="80000"/>
              </a:lnSpc>
              <a:spcBef>
                <a:spcPts val="400"/>
              </a:spcBef>
              <a:buClr>
                <a:srgbClr val="000000"/>
              </a:buClr>
              <a:buFont typeface="Arial"/>
              <a:buChar char="•"/>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it-IT" sz="1600" spc="-1" strike="noStrike">
                <a:solidFill>
                  <a:srgbClr val="000000"/>
                </a:solidFill>
                <a:latin typeface="Calibri"/>
              </a:rPr>
              <a:t>la diffusione di una cultura di genere, nel corso dell’anno 2022 e stato promosso un corso FAD costruito con la collaborazione della agenzia formativa regionale la cui fruizione continuerà anche nel corso del 2023.</a:t>
            </a:r>
            <a:endParaRPr b="0" lang="en-US" sz="1600" spc="-1" strike="noStrike">
              <a:solidFill>
                <a:srgbClr val="000000"/>
              </a:solidFill>
              <a:latin typeface="Calibri"/>
            </a:endParaRPr>
          </a:p>
          <a:p>
            <a:pPr marL="343080" indent="0">
              <a:lnSpc>
                <a:spcPct val="80000"/>
              </a:lnSpc>
              <a:spcBef>
                <a:spcPts val="400"/>
              </a:spcBef>
              <a:buNone/>
              <a:tabLst>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6-09-12T13:05:42Z</dcterms:created>
  <dc:creator>xxxx xxxxx</dc:creator>
  <dc:description/>
  <dc:language>en-US</dc:language>
  <cp:lastModifiedBy>a.dibugno</cp:lastModifiedBy>
  <dcterms:modified xsi:type="dcterms:W3CDTF">2023-11-22T14:57:31Z</dcterms:modified>
  <cp:revision>107</cp:revision>
  <dc:subject/>
  <dc:title>Presentazione di PowerPoint</dc:title>
</cp:coreProperties>
</file>